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820929"/>
        <c:axId val="85799728"/>
      </c:barChart>
      <c:catAx>
        <c:axId val="648209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99728"/>
        <c:crosses val="autoZero"/>
        <c:auto val="1"/>
        <c:lblAlgn val="ctr"/>
        <c:lblOffset val="100"/>
        <c:noMultiLvlLbl val="0"/>
      </c:catAx>
      <c:valAx>
        <c:axId val="857997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209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B1F9-FBCD-4888-BAB3-3ED6EF80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C8CA-ECF0-4004-9DBF-78EECC41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542F-5136-4D52-9634-8CD1788C2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EBF7-82BE-4BCF-B0B3-8105E2361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F057-4738-4F4A-A84B-1C01B761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BDDD-9D0B-4B4A-8D41-92F79732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A2B8-893C-4337-8DC0-F3CCCE7F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C341-E731-424D-BA74-89A3E1FA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B030-FDAD-4DEC-BC36-E7667007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8F26-0013-4476-A389-7E3F8C92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5B69-711C-4F35-8037-F4A69AA1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D8B9-D1D6-4BE6-AA87-014DC601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9C310-9211-4E1D-9E82-5167E5E182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