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24853"/>
        <c:axId val="82450271"/>
      </c:barChart>
      <c:catAx>
        <c:axId val="51224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50271"/>
        <c:crosses val="autoZero"/>
        <c:auto val="1"/>
        <c:lblAlgn val="ctr"/>
        <c:lblOffset val="100"/>
        <c:noMultiLvlLbl val="0"/>
      </c:catAx>
      <c:valAx>
        <c:axId val="82450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24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B7EB-2A6F-45B1-B9B2-DA91C0D6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03C-4123-4823-9F11-563B9BB0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477-D957-415E-937A-17BF7BD8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3F37-6AAF-4679-8647-2D71C2B5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86AF-DE85-4551-9800-C71716AA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B0A-CEF3-46F2-80F2-95A5B667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902F-DBC1-44EC-95B1-99DB7899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5B0-624E-4A56-AB9B-FC42D050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70D-1FBA-414D-9253-94C4EE1A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C9F-E91F-4021-979B-3B83B123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58F-3D45-46B6-9748-B6D3F990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3D0-9ACB-4FCE-B9B9-C7FA9A9E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AA823-50F6-4FA4-9A52-A8B9682D20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