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00643"/>
        <c:axId val="32330350"/>
      </c:barChart>
      <c:catAx>
        <c:axId val="225006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30350"/>
        <c:crosses val="autoZero"/>
        <c:auto val="1"/>
        <c:lblAlgn val="ctr"/>
        <c:lblOffset val="100"/>
        <c:noMultiLvlLbl val="0"/>
      </c:catAx>
      <c:valAx>
        <c:axId val="323303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006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F5CD-C110-4143-8FB2-B25152C5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278B-0464-450C-A926-513BC3C2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289E-81D2-44C9-9EB0-2CFF4C18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56B8-4968-4A8D-A99D-EADD0816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F688-BD77-4D45-814B-42956D66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9DE8-E3D0-4447-B53A-78D42EAE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517F-7341-42FC-99FC-4CE730F1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51A4-502B-4581-8BFF-83E50989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5C12-2594-42AF-A72A-2D368BC7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D043-71EA-48E5-AB6B-F11C181C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E475-8325-4FC8-9488-1A8E6849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D1F-0BEF-4099-8546-3BBAAD4A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C9C3C-2B49-4661-9ECE-FAB17DC539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