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346596"/>
        <c:axId val="72770670"/>
      </c:barChart>
      <c:catAx>
        <c:axId val="183465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70670"/>
        <c:crosses val="autoZero"/>
        <c:auto val="1"/>
        <c:lblAlgn val="ctr"/>
        <c:lblOffset val="100"/>
        <c:noMultiLvlLbl val="0"/>
      </c:catAx>
      <c:valAx>
        <c:axId val="727706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465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4DE4-A748-4BAB-8303-B82A2BF7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F067-A679-47FD-BC7D-1861E69C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A86B-4621-48C2-9FAC-3AAED612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9899-33E0-4591-A8DF-2FE1AF9A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5978-C49D-4591-B8CD-0BA76859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1531-18F4-412C-8268-664E9FAF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748C-B48A-4B80-9C0B-2B29B494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2727-0D32-4041-A910-C92088CE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73F9-5244-4A95-9FCB-47ACA17D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7A7D-213C-4F3B-A170-6A7359AE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DC2D-D518-4AB3-9113-317511A6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95E0-DD86-46D7-8EA9-A0768F34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EB2D0-D275-4F44-850D-4526093D6E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