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01868"/>
        <c:axId val="89339058"/>
      </c:barChart>
      <c:catAx>
        <c:axId val="41001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39058"/>
        <c:crosses val="autoZero"/>
        <c:auto val="1"/>
        <c:lblAlgn val="ctr"/>
        <c:lblOffset val="100"/>
        <c:noMultiLvlLbl val="0"/>
      </c:catAx>
      <c:valAx>
        <c:axId val="89339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01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3CF-D0AF-4F48-8089-29968BBD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32C-7D2B-46E3-9050-57FEB1A8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498-1981-4415-B066-78443A1D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F46-D679-48BB-BBB7-42704B10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D1D-B763-4690-BC13-B10D5F79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130-71FC-426B-87FB-0A62538C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8A6-25C3-4585-8658-E7991363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74C-0C69-4C20-89D4-4B75BDE0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36A-2864-4C84-A725-358EECA1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E2D-4B2F-4D17-9338-E20EADA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5A2-0377-4616-B806-51D9BE24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889-5730-43CE-AB3E-925B6D9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DB98A-880E-4A17-8D8C-D8812E41D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