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3474"/>
        <c:axId val="37553425"/>
      </c:barChart>
      <c:catAx>
        <c:axId val="2813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53425"/>
        <c:crosses val="autoZero"/>
        <c:auto val="1"/>
        <c:lblAlgn val="ctr"/>
        <c:lblOffset val="100"/>
        <c:noMultiLvlLbl val="0"/>
      </c:catAx>
      <c:valAx>
        <c:axId val="37553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365-1115-43E1-A0A3-30E77A5E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B6F-5394-4371-9B9F-FE17013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723-3DF3-49FA-9CD5-7C76D2BB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863-C219-46F6-87AE-F833AE3D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3A9-2C94-4475-8F08-B230FDBB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2A5-9B53-4C97-86B2-45C844D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DBD-7D54-474E-9DA6-9272E2E6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FD2-6A2F-4E10-A0A7-86320EF7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144-E5CE-4C70-9346-280AEA01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961-C1C9-4DEF-BABC-1F54570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223-673C-46DF-BEDC-F2E9299E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84E-C21E-40DC-85DB-D3671DA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C5CA2-E07F-4861-A27A-3B317B56D3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