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477617"/>
        <c:axId val="54051889"/>
      </c:barChart>
      <c:catAx>
        <c:axId val="194776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51889"/>
        <c:crosses val="autoZero"/>
        <c:auto val="1"/>
        <c:lblAlgn val="ctr"/>
        <c:lblOffset val="100"/>
        <c:noMultiLvlLbl val="0"/>
      </c:catAx>
      <c:valAx>
        <c:axId val="540518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776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9459-1A91-4D71-B2CA-A99303AD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C192-7ED9-4F5A-B8DF-0DC23124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5027-9380-488D-8893-FAE980C4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D26C-8500-4E1C-9033-16DFE8B3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7739-B800-4E07-AC5A-B294BB21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AF88-6319-4F51-824F-78A8ABA7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A514-A200-49B4-A4A4-C2FE918D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0AE5-074E-4A03-A7EF-FBFA2CB7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0149-AC6F-4EB8-97DA-1273452D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3159-0A48-4CE3-8BF6-2C4C6E18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1ECA-FE38-437F-8877-7B7A9742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C6C2-0F37-453B-8EA8-6BA87E62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6DB0F-CE27-4118-A2B5-156327E725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