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20929"/>
        <c:axId val="42019070"/>
      </c:barChart>
      <c:catAx>
        <c:axId val="51620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19070"/>
        <c:crosses val="autoZero"/>
        <c:auto val="1"/>
        <c:lblAlgn val="ctr"/>
        <c:lblOffset val="100"/>
        <c:noMultiLvlLbl val="0"/>
      </c:catAx>
      <c:valAx>
        <c:axId val="42019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20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777-DE4B-4F5B-B9A4-81A68D7D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9B4-CE54-4F6A-8A27-CD8A7877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0C4-F72F-4139-8DA4-45D90535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4A5-EDDB-413A-B0EB-4EB7EF16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162-224F-4674-9E92-8751905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504-8A11-4023-BDFF-43EC3068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FD1-93A4-47EE-B612-10C7D994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854-4BB9-40C1-A4A6-0D83DD06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2B5-2710-4EE5-80C2-8A01B19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E41-ADC2-46B9-913F-8207730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5BE-1E70-4A6F-A6A6-F690300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753-A299-4A61-845C-673A54A3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1A5A-2C11-4B82-AD3F-8EA55D4B5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