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54289"/>
        <c:axId val="32975107"/>
      </c:barChart>
      <c:catAx>
        <c:axId val="88154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75107"/>
        <c:crosses val="autoZero"/>
        <c:auto val="1"/>
        <c:lblAlgn val="ctr"/>
        <c:lblOffset val="100"/>
        <c:noMultiLvlLbl val="0"/>
      </c:catAx>
      <c:valAx>
        <c:axId val="32975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54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758-A0EF-4226-B4EE-5129F478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AC6-9B61-4BD2-9DFE-DE936039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7E9-C17E-4AA7-A4E7-4534794C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24F-52DF-4026-9D59-373B4729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A40-78D1-4AC2-88BD-BECAA7AF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313-C50A-410E-BBDC-D57027D9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457-C141-4ED5-AE7E-2FD18DC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EA2-C74B-48E8-8138-57D9A71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944-0B67-42CB-8066-5156F663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A06-B66E-4F31-A028-C5471B8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BBA-F746-4B96-90BF-698E408D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665-B904-4284-83DC-5A479176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EA8A2-9C67-43C9-9A02-4F42054EE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