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51037"/>
        <c:axId val="80763684"/>
      </c:barChart>
      <c:catAx>
        <c:axId val="99251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3684"/>
        <c:crosses val="autoZero"/>
        <c:auto val="1"/>
        <c:lblAlgn val="ctr"/>
        <c:lblOffset val="100"/>
        <c:noMultiLvlLbl val="0"/>
      </c:catAx>
      <c:valAx>
        <c:axId val="80763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1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345-EA67-4B30-8037-CA13DF3B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3E7-02EA-476F-AF98-3239BBFD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AE1-D783-4B88-B548-5B9430A1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9145-0C10-4349-8EBE-8E42D9EE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8E2-E210-4D0A-9B5F-5A3EE23B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2F8-B789-4BE9-AE9E-995FCC3A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040-EDA4-4D3C-80C2-E57C07F5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723-0703-46E2-AD1C-7A7EA716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FC5-39AD-444A-806C-67C475DE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702-F337-432B-9A69-9EF4653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A94-F82D-43D5-985F-BFB499D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0F1-F750-4C39-8B5F-AA9A7D9F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C371C-F566-478A-81B4-148BF57093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