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41990"/>
        <c:axId val="58689441"/>
      </c:barChart>
      <c:catAx>
        <c:axId val="88541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89441"/>
        <c:crosses val="autoZero"/>
        <c:auto val="1"/>
        <c:lblAlgn val="ctr"/>
        <c:lblOffset val="100"/>
        <c:noMultiLvlLbl val="0"/>
      </c:catAx>
      <c:valAx>
        <c:axId val="58689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41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A4A-E3D9-4FB7-827D-F125F5E5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1FA-8DF0-4F22-8393-5160809B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6BE-BB78-4A72-A75C-07BC01EA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6D2-EC90-4368-9D39-06665411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719-CD94-4818-A893-A89C3531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7F2-2765-4434-A3BF-430489D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487-7063-47D0-A0F0-A7DEE19B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315-9880-412B-B00F-FDF750A9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BB9-88FA-4594-BF3A-2810F112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715-FFBA-44C7-B7CF-2A0EF69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BC8-9525-4E0C-9CB2-38F9486B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97E-CFA7-4B89-A5CB-4B47BD1E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C51C9-1C4A-4016-822A-B7D78978DF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