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71033"/>
        <c:axId val="31684682"/>
      </c:barChart>
      <c:catAx>
        <c:axId val="50171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84682"/>
        <c:crosses val="autoZero"/>
        <c:auto val="1"/>
        <c:lblAlgn val="ctr"/>
        <c:lblOffset val="100"/>
        <c:noMultiLvlLbl val="0"/>
      </c:catAx>
      <c:valAx>
        <c:axId val="31684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71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A38-9214-46C1-B36A-D48F6E9E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016-97B8-4101-91AB-325769DC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B94-8C8B-4B98-BCD1-C4394030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234-DA28-401F-8E35-EFB0ADD3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E98-2FFA-4597-BE92-7647AF57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DCA-00F7-4CAA-A4D1-AF1A11F7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3E7-12F6-474C-9EEC-15DB3DF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F51-AC19-40B9-A37F-5940D7A6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106-8DAC-47A8-89BF-CC636708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D4B-DCD8-49D9-98B0-56A69C29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E94-9DAF-44A7-928F-0295832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ED5-ED1F-4C30-87DA-E7DC2768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041F9-D6D1-4722-936D-2FA29288C6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