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16647"/>
        <c:axId val="68204474"/>
      </c:barChart>
      <c:catAx>
        <c:axId val="44716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04474"/>
        <c:crosses val="autoZero"/>
        <c:auto val="1"/>
        <c:lblAlgn val="ctr"/>
        <c:lblOffset val="100"/>
        <c:noMultiLvlLbl val="0"/>
      </c:catAx>
      <c:valAx>
        <c:axId val="68204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16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8CE-A8BA-44B3-8A32-E32B4E57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BF7-DA8C-4703-8799-07CF4FD5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16C-95F6-4BAD-A101-31EE30A1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FDA-7420-46AE-8A37-4747E4AC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A66-4011-404C-87AA-53A2C4F2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209-90BD-4E2E-B653-DFD45D30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D46-BF7D-4044-95AA-75F04B2A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4C1-153F-4A32-9A4D-73D035B8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57F-E235-4011-B7E1-EF6DA06C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0D1-6DB3-4179-9022-2CBBB8B6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65E-3E3C-45E4-B5ED-D344F34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7D1-9004-4223-B910-76424B6A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B20DC-B531-43BA-A488-D785AA0115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