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484594"/>
        <c:axId val="51386060"/>
      </c:barChart>
      <c:catAx>
        <c:axId val="444845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386060"/>
        <c:crosses val="autoZero"/>
        <c:auto val="1"/>
        <c:lblAlgn val="ctr"/>
        <c:lblOffset val="100"/>
        <c:noMultiLvlLbl val="0"/>
      </c:catAx>
      <c:valAx>
        <c:axId val="513860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4845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DA28-917C-4202-AEF8-72F20653A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B4D8-9F10-4C99-8E8B-F82F0A76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7653-D3F4-40A5-90B1-3A691108D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8DE7-597B-4FB4-9BD9-96B32FD58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E0A2-1586-44AC-B7E7-522365F4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2735-4CCB-462D-9DC1-351044CC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C64C-9C3F-4350-B8A9-1F848DD9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F4EF-D78E-4992-B110-79E15385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6655-3E56-4D8A-9262-F2752130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FC45-F592-46B0-8DE9-B9A9FF8F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705E-8CED-4E89-A0A4-2B6C1F6B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5E0C-4652-4FFA-BFA5-7D6EA37D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EFEC94-3D33-4D1A-A16D-4A63003505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