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62603"/>
        <c:axId val="59192621"/>
      </c:barChart>
      <c:catAx>
        <c:axId val="66162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2621"/>
        <c:crosses val="autoZero"/>
        <c:auto val="1"/>
        <c:lblAlgn val="ctr"/>
        <c:lblOffset val="100"/>
        <c:noMultiLvlLbl val="0"/>
      </c:catAx>
      <c:valAx>
        <c:axId val="59192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2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6CD-7DE8-46F2-BBFD-4CC9B96E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831-A7E4-4D30-8C65-51DE9B0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D6B-1F98-4191-9543-E1B30EAE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57E-25F9-4EB5-8FC5-031866BB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47C-9E69-44FF-99B8-068922DA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766-CB0F-4808-A1FE-A4171B8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96E-441A-49E4-B685-02C7D7E9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9CD-529B-4A00-918F-84A015D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406-F490-4177-8A4E-E634872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88E-04D9-4146-89BC-6A4915A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506-374B-479C-A926-47BA8FD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EBF-0428-4DC8-B98F-8B4B008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C88EE-646B-4D03-AC30-79F636AD0A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