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19891"/>
        <c:axId val="21963412"/>
      </c:barChart>
      <c:catAx>
        <c:axId val="46119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63412"/>
        <c:crosses val="autoZero"/>
        <c:auto val="1"/>
        <c:lblAlgn val="ctr"/>
        <c:lblOffset val="100"/>
        <c:noMultiLvlLbl val="0"/>
      </c:catAx>
      <c:valAx>
        <c:axId val="21963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19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685-1E5D-4DDE-8999-37F67B87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4B6-A794-48AC-B289-6DA16C31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B09-BA5F-42C4-BCFF-12F7CD8D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A42-2DF0-4F2F-AB6A-D79D73E0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C24-9A73-4F5B-9EFB-4051247A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203-CCE7-452A-8D11-B637BEFE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867-FDC5-4E02-B5F1-510610B9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9D1-D216-4224-90EF-24FEE44A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A2E-53FE-434E-8CD8-13C94A52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FD6-B669-4150-B332-88601058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91B-2846-4BBC-BC51-224EA446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368-D568-4858-AF7E-C80C1255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16185-9936-4CDD-88D2-C77001589D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