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26881"/>
        <c:axId val="53079432"/>
      </c:barChart>
      <c:catAx>
        <c:axId val="87026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79432"/>
        <c:crosses val="autoZero"/>
        <c:auto val="1"/>
        <c:lblAlgn val="ctr"/>
        <c:lblOffset val="100"/>
        <c:noMultiLvlLbl val="0"/>
      </c:catAx>
      <c:valAx>
        <c:axId val="53079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6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8BF-CC96-452C-B463-31FF2C30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EFF-8FD2-48F0-8B32-6B4BC64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7B2-B86C-435F-BAA5-400A16A0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D6B-EA08-4C3B-B523-72C47308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46B-70C5-406E-8FD3-AB1F662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028-1613-48DD-B7ED-9FC2645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C00-51C5-4EF2-8507-7B805A8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5DF-1AC3-42D1-BA93-4F86E383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738-CE67-4442-AA7C-BB63CFD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309-6B0C-402B-9159-A8D53FBE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B27-3F25-4A19-8AC9-C590BC16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61B-9AC7-4BFB-9D60-B55FE126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9ECCA-EA05-4043-B316-AA1A50256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