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44206"/>
        <c:axId val="90872010"/>
      </c:barChart>
      <c:catAx>
        <c:axId val="28144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72010"/>
        <c:crosses val="autoZero"/>
        <c:auto val="1"/>
        <c:lblAlgn val="ctr"/>
        <c:lblOffset val="100"/>
        <c:noMultiLvlLbl val="0"/>
      </c:catAx>
      <c:valAx>
        <c:axId val="90872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44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602-6D89-4ECF-B45A-F6890192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8A7-AC83-46EE-B8EE-F983420A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85F-A4AA-4A67-B626-61F8318A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78A-BDC2-4DE5-8A7E-18BF7584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6E1-E32F-479C-A259-CB3F4D40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138-4B0B-44C4-964D-141BE654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96A-7D8D-4CF5-8EE6-34E452E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81B-B4E3-4C08-818A-E32665BA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D75-193F-422F-9A06-17361A47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EC1-4EB0-4C75-953D-5EFBD163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316-2766-429F-A700-504B3BA6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9AD-1090-4FD2-910C-9F06597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02A28-298A-4E29-AF63-65570C7AE9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