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86481"/>
        <c:axId val="50005773"/>
      </c:barChart>
      <c:catAx>
        <c:axId val="59986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05773"/>
        <c:crosses val="autoZero"/>
        <c:auto val="1"/>
        <c:lblAlgn val="ctr"/>
        <c:lblOffset val="100"/>
        <c:noMultiLvlLbl val="0"/>
      </c:catAx>
      <c:valAx>
        <c:axId val="50005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6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288-47E0-4EFA-BD17-81BC7A83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4E3-F24E-4311-BD09-33BC62AE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BBF-0BC9-4852-BB3B-6DB4AB5D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C25-9BF9-49E6-A0A0-17AB1E2B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E2F-0458-44E9-9544-48713216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A1A-A254-40C5-9B94-31399731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241-59CE-4816-848A-15F3EF98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E48-98BA-498E-BCD1-1769D607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9B8-124B-4305-8BAA-79115936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707-0340-4E90-A99D-F477100C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10A-E64F-4917-BEBB-37A31DC1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3C5-935A-426F-A421-A4035C80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F0C17-DCFA-48B7-9B7A-CE1D9EE05B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