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19903"/>
        <c:axId val="92402523"/>
      </c:barChart>
      <c:catAx>
        <c:axId val="55819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02523"/>
        <c:crosses val="autoZero"/>
        <c:auto val="1"/>
        <c:lblAlgn val="ctr"/>
        <c:lblOffset val="100"/>
        <c:noMultiLvlLbl val="0"/>
      </c:catAx>
      <c:valAx>
        <c:axId val="924025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19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FAB-0F4A-4B77-9423-6B0351A9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3BB-F4D3-477B-ADF3-D70D7D02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CEAD-2CCC-4980-8200-5469B004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4E6-C1BF-430E-BA1B-827084D0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F74-5BFD-479C-92A5-26AC2698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432-706D-46BC-8ED3-BE3F1ADE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693-2204-4D0C-A5ED-5E3580A6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F88-D709-4031-ADA0-6BE6A686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B7F-BE1C-4BF5-A0CA-1FB2AB82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EEC2-1515-44BF-8594-8897F9C0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574-19D0-49B6-BB62-04DE8CC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DDA-3FF9-4173-9D7A-82B0451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096E8-4D48-4FB3-9A85-056123BE42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