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50565"/>
        <c:axId val="77652582"/>
      </c:barChart>
      <c:catAx>
        <c:axId val="34050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52582"/>
        <c:crosses val="autoZero"/>
        <c:auto val="1"/>
        <c:lblAlgn val="ctr"/>
        <c:lblOffset val="100"/>
        <c:noMultiLvlLbl val="0"/>
      </c:catAx>
      <c:valAx>
        <c:axId val="77652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50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8A5-182C-4B71-9F6B-88CAAC0D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9EF-2148-4583-8A85-DF5D00A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ACA-5EC5-49A6-8AD2-E98DEB1B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280-D905-4CD2-9E96-11069F90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950-314C-413D-B4B4-F1D93B7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07C-0FC8-4308-B7C7-1208BF4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16B-515C-4442-A61E-0303153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24A-2B17-4934-8D7C-B5DA818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40D-928D-48E9-8127-67C27B6E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6DA-4C5B-4988-8CA3-D8824FB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B81-C0D8-46BC-9BAF-DE8E56D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E5-C652-4CCD-9C64-409BB9E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E8735-D045-472D-AA64-2433CD33B0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