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52916"/>
        <c:axId val="97802051"/>
      </c:barChart>
      <c:catAx>
        <c:axId val="28552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2051"/>
        <c:crosses val="autoZero"/>
        <c:auto val="1"/>
        <c:lblAlgn val="ctr"/>
        <c:lblOffset val="100"/>
        <c:noMultiLvlLbl val="0"/>
      </c:catAx>
      <c:valAx>
        <c:axId val="97802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52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16C-D9E4-4BC1-BB1E-F125BA2B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980-2938-4577-A64B-4D31BD3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D04-9F94-46A6-8E8A-C6144A90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2E2-E562-49DA-8BE6-9134302D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983-158D-49D1-B232-A8386622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859-22BD-4A8D-8EDF-656E8ACC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50F-00EE-42AC-89FD-8FAA2B34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17B-7C27-499A-A086-979C3DD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E01-23E3-481E-8BF9-75783B1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646-FD92-457C-ADFE-BD553B0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E03-0A9A-44D1-9E83-24DB05D6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5E8-0439-4381-88BB-84654B8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1238F-8363-4E49-85EF-648CA6AA9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