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37425"/>
        <c:axId val="52146355"/>
      </c:barChart>
      <c:catAx>
        <c:axId val="41837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46355"/>
        <c:crosses val="autoZero"/>
        <c:auto val="1"/>
        <c:lblAlgn val="ctr"/>
        <c:lblOffset val="100"/>
        <c:noMultiLvlLbl val="0"/>
      </c:catAx>
      <c:valAx>
        <c:axId val="52146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37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E33A-65F5-4E8E-80FE-028DFFD4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FA9-3995-446F-A919-3D6D4D13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0C7C-8AA8-4408-95C4-926F8900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1430-8744-4EA9-996A-317D860E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F08-75FF-4866-A5F1-5E0F0E7B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14CE-A9E4-4EC8-8E37-78B85726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3A5-7138-4214-A7AE-37523F55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B49F-6CDE-4DC3-88B0-4948BCC4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9E8-9589-413E-981D-3D678145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75A2-B723-4011-A955-5675DCB2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FDF-1DD1-4A0E-AB3F-16A6B143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0F7A-2566-44CF-8503-00F016C7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82505-2E6C-4FDF-A574-20345F3792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