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583994"/>
        <c:axId val="42555192"/>
      </c:barChart>
      <c:catAx>
        <c:axId val="315839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55192"/>
        <c:crosses val="autoZero"/>
        <c:auto val="1"/>
        <c:lblAlgn val="ctr"/>
        <c:lblOffset val="100"/>
        <c:noMultiLvlLbl val="0"/>
      </c:catAx>
      <c:valAx>
        <c:axId val="42555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839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F46-9D4E-4166-A229-3C234FC2B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F57-A777-45A3-869B-A22F8F1C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33DD-4A61-4B8D-99BB-31D79765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6FE2-5CE1-489A-94A0-354A9EE7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0C11-2851-43DC-B585-BE275AB1E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F2F-406E-41A6-B449-6A9B1FA8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4D35-EC98-430F-9A31-0704AF8A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5884-C083-4193-B893-783EB0F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2047-E560-42B8-BE54-200649F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392-18D5-44AE-B451-CD3A42EA2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8A2-AC69-40F2-BDD1-D4A29D403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EB6-8603-4DEF-85A7-AC65302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C767C4-D991-452A-83AF-42184C1C7BD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