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82898"/>
        <c:axId val="93210967"/>
      </c:barChart>
      <c:catAx>
        <c:axId val="82882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10967"/>
        <c:crosses val="autoZero"/>
        <c:auto val="1"/>
        <c:lblAlgn val="ctr"/>
        <c:lblOffset val="100"/>
        <c:noMultiLvlLbl val="0"/>
      </c:catAx>
      <c:valAx>
        <c:axId val="93210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82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7E1-02F8-4B58-B983-3BCA998B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FCD-66D6-4989-A285-3976EE8B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719-78DE-4245-9591-BB1E3E3F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7DF-DB65-4890-A0E0-D5223D74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77E-59B9-41A6-8919-D638AE40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39E-E77B-458C-8DE1-3057A97E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E24-344C-43E5-80E3-1F8426FD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480-4775-4704-8ADC-21D86C62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667-390E-434C-BB2A-D347F793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031-A383-4751-B6E4-72955577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2B8-676D-4709-87B5-2AE7C612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434-5DC7-44B5-BF29-CC12BE0D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8A376-738A-45FB-A78F-3009FABA45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