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86270"/>
        <c:axId val="71693563"/>
      </c:barChart>
      <c:catAx>
        <c:axId val="92862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93563"/>
        <c:crosses val="autoZero"/>
        <c:auto val="1"/>
        <c:lblAlgn val="ctr"/>
        <c:lblOffset val="100"/>
        <c:noMultiLvlLbl val="0"/>
      </c:catAx>
      <c:valAx>
        <c:axId val="716935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62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7965-7EF3-4D46-B1DE-EC886E50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7A2D-EAD2-4F71-9A0A-9685674A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D6CC-1E2D-4BB0-9B0D-C8A0351A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7786-0CAE-4BD7-8A4B-0078EE4DF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8C9F-1B60-4A3D-AE20-2AF6B4A0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CD29-5332-4028-8120-B1602A15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447E-9B43-49C8-B2F5-BD69694B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A97A-FFB2-452D-B31B-9C811C68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C2A4-3007-4CA8-A0CE-DE86E82A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4732-A3A6-4358-91B3-C2300196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8B3F-712B-412F-932A-FD889EBE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8476-7385-411D-B61B-38138598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A5BCD-C37D-49C1-BC44-33F327954C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