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02944"/>
        <c:axId val="30992094"/>
      </c:barChart>
      <c:catAx>
        <c:axId val="61502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92094"/>
        <c:crosses val="autoZero"/>
        <c:auto val="1"/>
        <c:lblAlgn val="ctr"/>
        <c:lblOffset val="100"/>
        <c:noMultiLvlLbl val="0"/>
      </c:catAx>
      <c:valAx>
        <c:axId val="30992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02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946-ED0C-4692-95BD-B38B2A55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A18-19C9-4210-8EF3-EC0C06F8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81B-59F6-415B-8F04-1DC518A6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8BA-B723-441E-AC48-51804DE0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493-6DE4-40B9-B05F-B5D9A336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719-4173-4FE8-8EE4-CFC3989D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F0A-3012-44A3-874A-5A6C4573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4D1-32D7-40FC-8589-736AFF40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503-CF39-4C2A-9D2F-3ED4120E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0D9-37AF-4335-9442-6E52007F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7C7-49CB-4F14-A2CD-E30CC81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550-F6BB-40DA-AB85-E906A55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D646C-A2D1-4032-8241-DE45727F7B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