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02293"/>
        <c:axId val="71515423"/>
      </c:barChart>
      <c:catAx>
        <c:axId val="29602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15423"/>
        <c:crosses val="autoZero"/>
        <c:auto val="1"/>
        <c:lblAlgn val="ctr"/>
        <c:lblOffset val="100"/>
        <c:noMultiLvlLbl val="0"/>
      </c:catAx>
      <c:valAx>
        <c:axId val="71515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02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0CD-2FE2-4B39-AAE1-2119FA52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08C-0EF9-404E-97A1-6A3A14E0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9FA-7337-4649-BD51-92ED38FD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AD0-2423-4A66-BF53-FA531AE5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141-5BAF-4F27-A4B4-44BED542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E4A-45AF-4934-8994-0187284F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5BE-17CE-4739-BBED-DC269C58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86F-AB6D-47F7-A747-81938BA1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BD5-BFC4-4E3F-92A8-D9D01A5D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03A-CAF8-4178-A256-5AA8E05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BAA-EEAE-4EE1-B781-B82DE4D6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F63-54C0-43FC-A415-0BF434AA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CDE12-D230-431A-AB18-A2803CF95F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