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1716"/>
        <c:axId val="26912898"/>
      </c:barChart>
      <c:catAx>
        <c:axId val="4351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12898"/>
        <c:crosses val="autoZero"/>
        <c:auto val="1"/>
        <c:lblAlgn val="ctr"/>
        <c:lblOffset val="100"/>
        <c:noMultiLvlLbl val="0"/>
      </c:catAx>
      <c:valAx>
        <c:axId val="26912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1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DBC-34B1-4241-AA13-7240FB27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A36-F470-4A5B-A373-1435045F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B94-0497-4281-98D1-E1F575B9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06B-A417-4B6F-8667-7A2E04E2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E37-E1C1-4D63-96F3-E99D4F10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9A3-27BD-4D48-A010-E8F97E9B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8AE-A7B9-465E-B922-C66FC7FC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B8A-9B78-4E58-84D5-AF0C1E57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BAD-3230-45A9-91D6-15A48BE6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921-85B6-4B91-9382-F20209F9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03F-CEA1-4C7E-9076-0AAA422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CC3-AA02-4767-9999-532033D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3BE93-B4B9-48E3-AF7C-03A80DD3D7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