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65946"/>
        <c:axId val="40414973"/>
      </c:barChart>
      <c:catAx>
        <c:axId val="95865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14973"/>
        <c:crosses val="autoZero"/>
        <c:auto val="1"/>
        <c:lblAlgn val="ctr"/>
        <c:lblOffset val="100"/>
        <c:noMultiLvlLbl val="0"/>
      </c:catAx>
      <c:valAx>
        <c:axId val="40414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65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1CF8-EB80-4D19-8235-4867A42C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BEF-8B80-4806-926F-711F0148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B76-8CBA-4433-BA05-7400BACA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EE5-59A1-4EEA-A260-D3772713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AF8-E245-4F5B-A182-127E5BB5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1E3-FF2A-4E8E-9CEB-8D6F2A78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B1A-1A90-4DAE-8E7E-EDD8325F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362-8A93-4C94-B7F1-507464F5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30F-A3D0-418A-8D6A-077CF7C8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AF5-4DBF-4A98-B6F1-0C410A76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05D-33F7-4A2D-AEB9-BA6B6BD5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F95-7AD8-4769-A561-D3A68CCB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50EDB-39DD-491B-BA10-A75F553E1C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