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789740"/>
        <c:axId val="53468240"/>
      </c:barChart>
      <c:catAx>
        <c:axId val="637897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68240"/>
        <c:crosses val="autoZero"/>
        <c:auto val="1"/>
        <c:lblAlgn val="ctr"/>
        <c:lblOffset val="100"/>
        <c:noMultiLvlLbl val="0"/>
      </c:catAx>
      <c:valAx>
        <c:axId val="534682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897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8B37-E743-4574-B616-7F1806A8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75F5-6514-4CBC-8950-4AD11FD2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FF6A-10BB-42CE-BA2B-A6954842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62C-EA47-4BA9-BC14-6DDD88A5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3719-AC3D-4B0B-8791-DDB7D0C9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A251-D3C9-4356-B4A9-00E15F7E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310B-03A2-47EC-9312-F9A388DE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063E-B3AE-4E93-B59B-5891F1BD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620-0C43-4821-8926-10F5C6C7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A706-F085-43FE-90CA-FEC4F17D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5FE2-EBBC-43C1-A236-F5683430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705A-A17C-49EF-85AB-552DA2EC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672D0-F915-4B70-9DAA-7EE316D7C4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