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67039"/>
        <c:axId val="33329401"/>
      </c:barChart>
      <c:catAx>
        <c:axId val="170670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29401"/>
        <c:crosses val="autoZero"/>
        <c:auto val="1"/>
        <c:lblAlgn val="ctr"/>
        <c:lblOffset val="100"/>
        <c:noMultiLvlLbl val="0"/>
      </c:catAx>
      <c:valAx>
        <c:axId val="33329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670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7205-40F5-40B5-8DF6-C22D4A1F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BFAB-4FC9-4D7C-B2C8-0945CDAA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64D6-3C26-4CA7-A389-3AA875B2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4EA-80B0-4528-A994-2BF36F67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4D36-B5C4-4883-88BF-D74AA9FB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A642-5425-4CC3-870A-0C086F04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E5D0-DDB8-47A1-A6B7-14F60E61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24B5-2FE8-4A3A-9776-99508031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815C-DED3-42B8-9E35-02F4EA23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511-9F3A-4C8D-9B6D-6F530CEC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440-F2E8-48D5-A03B-ACA6361E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C779-1D43-4468-A4D5-F8FD9409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7C1E0-2162-4910-8023-966E38ACCE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