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236947"/>
        <c:axId val="35370266"/>
      </c:barChart>
      <c:catAx>
        <c:axId val="542369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70266"/>
        <c:crosses val="autoZero"/>
        <c:auto val="1"/>
        <c:lblAlgn val="ctr"/>
        <c:lblOffset val="100"/>
        <c:noMultiLvlLbl val="0"/>
      </c:catAx>
      <c:valAx>
        <c:axId val="353702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2369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4425-C965-49F4-927D-C611BF92C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21D9-F379-4315-976A-B059DB9C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0618-DC8D-470B-877D-CB9B4991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9BED-59D5-48D5-9DD2-5B036E60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2143-2FAA-4941-A189-D7012865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7188-DB25-4C13-A817-076A8F76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58DF-DB09-4972-BA80-3755DE7C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215D-9548-4F1A-8DAE-6D6FE7D4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AE22-BCB3-4556-A753-FC562608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9076-8C4D-4AE7-B77D-AF50E250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E268-356B-4601-B46A-8EDDF55F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EDAD-2E93-4076-B96E-A20CA3AA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E2AB7-671E-4720-8283-67BCD9F6D0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