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31902"/>
        <c:axId val="86696593"/>
      </c:barChart>
      <c:catAx>
        <c:axId val="2463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96593"/>
        <c:crosses val="autoZero"/>
        <c:auto val="1"/>
        <c:lblAlgn val="ctr"/>
        <c:lblOffset val="100"/>
        <c:noMultiLvlLbl val="0"/>
      </c:catAx>
      <c:valAx>
        <c:axId val="86696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5F4-2B5C-4C42-A441-AC9F7ED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4AA-EA03-4F8B-A9EC-57F4D5E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C41-7F7D-42A9-9756-4E6C9939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5F8-D1D0-4B8B-A3DD-88E03D0F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124-8DBB-4082-9333-943CA7E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02D-5945-4B4C-B504-EBB5BFE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DEC-B759-4284-B971-1B660871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643-DC19-490F-9B95-A4B02E98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375-48D6-4F91-A3CF-36FB9E4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EF4-DC8B-4A47-A1A7-BCCE47C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AFF-33A0-4A5A-8D46-4BC439B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491-063E-4E01-8800-0020223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A09F4-63A9-47EB-BC31-925BD65C32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