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17457"/>
        <c:axId val="10441291"/>
      </c:barChart>
      <c:catAx>
        <c:axId val="78017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41291"/>
        <c:crosses val="autoZero"/>
        <c:auto val="1"/>
        <c:lblAlgn val="ctr"/>
        <c:lblOffset val="100"/>
        <c:noMultiLvlLbl val="0"/>
      </c:catAx>
      <c:valAx>
        <c:axId val="10441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17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CE9-F926-4647-AC54-ED0DDC3B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C72-5D7C-4F66-8636-F2437FFE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97E-4488-46F5-8D52-DEF88889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644-F6B0-4355-B78F-20D0C7EE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1D6-779E-47D0-9F02-7E852529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FEF-83C0-403D-BBE6-352A2A00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A60-2D3F-4404-82A9-21A6D917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946-9992-4841-8A17-C5F28C3E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C5F-0948-4881-956C-6396FB27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2E3-6370-4288-AD81-9DFADEB8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096-23A9-480C-BA9C-9027A2A6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2BC-AEB7-45F2-ADA3-04547209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EE50B-D63F-484A-9470-E83A738D4D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