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40862"/>
        <c:axId val="91309820"/>
      </c:barChart>
      <c:catAx>
        <c:axId val="13040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09820"/>
        <c:crosses val="autoZero"/>
        <c:auto val="1"/>
        <c:lblAlgn val="ctr"/>
        <c:lblOffset val="100"/>
        <c:noMultiLvlLbl val="0"/>
      </c:catAx>
      <c:valAx>
        <c:axId val="913098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40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ACE-33B9-468A-8368-10435005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A15E-C1E8-4192-AAFE-81810875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D0C-E028-43AA-80B5-2494BAC7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93B8-1F60-4EBC-BB6D-F1CAB4154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7B9-342E-46C9-9FD0-82BD99AC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55F-F49C-4BD1-AAA8-E4426F7B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CA6-D15D-4390-A75B-122C7DA2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D2A7-610C-4FB3-8634-8118E21A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3EF-BF75-4DC3-AE58-F9F8A28B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1F1-AC33-46DA-BFF3-5C562851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38B-3D76-453A-B547-CE6D7867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CA3-6B0F-43AF-B24A-F97F2F84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3EF43-68DC-467B-B4AE-5E97262D4B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