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83342"/>
        <c:axId val="51334616"/>
      </c:barChart>
      <c:catAx>
        <c:axId val="64383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34616"/>
        <c:crosses val="autoZero"/>
        <c:auto val="1"/>
        <c:lblAlgn val="ctr"/>
        <c:lblOffset val="100"/>
        <c:noMultiLvlLbl val="0"/>
      </c:catAx>
      <c:valAx>
        <c:axId val="51334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83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3A7-FFD3-4F1B-89FE-BF8C2B4D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4C0-06B0-40F7-BBFD-210C704B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75A-2880-40D8-ABD8-EB3D630E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0AC-D6D7-4D6B-9AE9-7E02B88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993-DD0C-4A11-B917-B526570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601-9FE7-4175-A273-513C4D93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0B1-A4F8-4D55-9831-BB5A637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5B2-450C-43C7-AA2A-8F5AC4A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57B-4009-4D3F-AC05-13CE070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85C-A83B-451E-90CF-EFF38A2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C6D-A85F-463E-A3A9-C1D0473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6F6-DDB4-48E3-84D5-A7E2D8A2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5051A-10DB-497C-B266-E9C30BAC7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