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69468"/>
        <c:axId val="59831759"/>
      </c:barChart>
      <c:catAx>
        <c:axId val="7126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31759"/>
        <c:crosses val="autoZero"/>
        <c:auto val="1"/>
        <c:lblAlgn val="ctr"/>
        <c:lblOffset val="100"/>
        <c:noMultiLvlLbl val="0"/>
      </c:catAx>
      <c:valAx>
        <c:axId val="59831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946-5FDB-4985-A90F-5BCDDFB1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D64-549E-4356-A7FF-5BA7E904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E07-59E4-4A41-99C4-070117B4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FD9-CA10-473F-AEC7-E1B7EB8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29A-4262-48CE-A4F5-A199DA1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CFF-99B5-48DD-9002-7E77F196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553-8FB6-4088-AC4C-FF642D4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7E1-C963-489C-9892-95B75A0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D7F-4509-4413-AB9E-32817847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9E1-C889-4003-8092-1C5C1E3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8A3-42BF-41AA-9E57-718D289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64C-3C5D-4A9B-B399-D671B68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8F6BB-12B4-443D-9659-177703B17E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