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654015"/>
        <c:axId val="40087513"/>
      </c:barChart>
      <c:catAx>
        <c:axId val="526540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087513"/>
        <c:crosses val="autoZero"/>
        <c:auto val="1"/>
        <c:lblAlgn val="ctr"/>
        <c:lblOffset val="100"/>
        <c:noMultiLvlLbl val="0"/>
      </c:catAx>
      <c:valAx>
        <c:axId val="400875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6540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B553-B837-45B9-AAF9-5916E671B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7B6E-8624-4C94-875A-B9F84642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28AC-C69F-49BB-99DD-F2D342A5F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25B9-8AA6-4CB6-AE81-2A1A5DF91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BC2B-B0C8-4FA3-88FF-B3D1A4E1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9677-8C9B-4B11-BC83-C6069CD0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D5DC-15BC-4BB4-BAA8-316D7361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45BE-ADC8-40BA-9360-1B4A9CD1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CE68-1562-4166-8EE7-3E0BBFF5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1C78-3678-4F57-B09A-FF576BBE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3F7A-A64E-4659-AF5E-FE9536F4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DCFF-0612-47A1-BE34-F04F6680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2A935A-848E-4CA7-92F2-EBFA794183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