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07742"/>
        <c:axId val="77091827"/>
      </c:barChart>
      <c:catAx>
        <c:axId val="78807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91827"/>
        <c:crosses val="autoZero"/>
        <c:auto val="1"/>
        <c:lblAlgn val="ctr"/>
        <c:lblOffset val="100"/>
        <c:noMultiLvlLbl val="0"/>
      </c:catAx>
      <c:valAx>
        <c:axId val="77091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07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3A8-28DD-4C1D-987A-97897C9D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48E-9832-42DB-BB0E-98BF527D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CEF-2D2A-4A1A-8B63-907357FA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72E-3F63-43EF-B7B6-9AD5BB35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3E7-D617-4BB6-99AF-A53A4B3E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73B-FB14-487E-AB05-EB86A5B3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C80-41E0-45A8-8645-EC83CC8A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C93-89BD-4F11-A76E-0BABC536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4662-6866-4C23-A596-1A8421E8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9A7-63BB-4287-AE93-D88145E5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4BC-C1A2-4B97-95F2-6C1380A7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A08-7C4D-4766-B05A-1C86E75E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037C9-2B80-45FC-BCA3-60B3E59F00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