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31469"/>
        <c:axId val="64234154"/>
      </c:barChart>
      <c:catAx>
        <c:axId val="267314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34154"/>
        <c:crosses val="autoZero"/>
        <c:auto val="1"/>
        <c:lblAlgn val="ctr"/>
        <c:lblOffset val="100"/>
        <c:noMultiLvlLbl val="0"/>
      </c:catAx>
      <c:valAx>
        <c:axId val="64234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314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1ABD-2199-4B91-8CB3-7CB9703C2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913-AF06-493C-8E1C-A87A7FB1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30C-5FBD-4B26-A4D2-04ABBEF66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7E90-965A-4F54-A643-6C666AC2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3CD3-1F73-4B8B-B78E-30FBBD4B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D15-10EB-4885-9F0A-DCA8B8C1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87AA-5D89-420B-8648-79F95CFB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DF23-856F-4AEF-8D49-5A07D720A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53F-F54E-4AAE-9888-AA9F982D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3B45-3C43-49DE-9D27-59694B6FA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F26F-EF2C-425A-9E18-75563459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FD74-9B02-4685-9CE3-B90542DA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CD8722-139B-4C13-A6EE-5938C9C781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