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83872"/>
        <c:axId val="50856664"/>
      </c:barChart>
      <c:catAx>
        <c:axId val="33883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56664"/>
        <c:crosses val="autoZero"/>
        <c:auto val="1"/>
        <c:lblAlgn val="ctr"/>
        <c:lblOffset val="100"/>
        <c:noMultiLvlLbl val="0"/>
      </c:catAx>
      <c:valAx>
        <c:axId val="50856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83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AF3-42B2-44FB-8A23-AA3AC84D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8BA-804C-466B-988A-4440CB7B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05E-E93E-4C59-8A88-DE80D833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C2A-C861-4C4E-9A8A-9181EC1A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8B0-6D68-4C33-A6FE-7A673E0F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251-879D-46BD-8476-ADD4787B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A82-93CE-4197-A280-79F4A33E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845-B201-4B7B-8940-C361C087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4AD-29D0-419E-A24D-515E5BDD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DE6-3593-4A06-B127-EB98C597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58D-B93A-4C9B-9126-46844F79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393-6D15-4106-9316-0313021D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AEBF0-6725-47B8-9D6A-76BF445557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