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053484"/>
        <c:axId val="6665131"/>
      </c:barChart>
      <c:catAx>
        <c:axId val="260534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65131"/>
        <c:crosses val="autoZero"/>
        <c:auto val="1"/>
        <c:lblAlgn val="ctr"/>
        <c:lblOffset val="100"/>
        <c:noMultiLvlLbl val="0"/>
      </c:catAx>
      <c:valAx>
        <c:axId val="66651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0534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32F5-E0E4-403A-957F-CDD11BFE8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D6C0-270E-4302-BD57-BBEBA1934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E8F7-71D8-4071-B357-D94B96B46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E71E-AD13-48E8-BE6B-03A463F14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4425-2B93-4937-96C2-318837AA3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0EB1-69E5-427B-A171-75850A008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C5B2-E58A-42D5-9A17-B1B98EF54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C7C3-10B3-4389-8E6C-E9EB57161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E912-FB5E-428C-AF28-8A23B2B21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6CC1-5E33-4CAE-9AF0-880CB5AD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D833-D09E-428B-B3FF-564593432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600A-C1C3-4CF1-943D-7C54D7E0F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72D1EC-2CD1-4986-82AD-DC42D5DD8AB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