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6998"/>
        <c:axId val="36022744"/>
      </c:barChart>
      <c:catAx>
        <c:axId val="7196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22744"/>
        <c:crosses val="autoZero"/>
        <c:auto val="1"/>
        <c:lblAlgn val="ctr"/>
        <c:lblOffset val="100"/>
        <c:noMultiLvlLbl val="0"/>
      </c:catAx>
      <c:valAx>
        <c:axId val="36022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6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F10-895B-4297-9385-06BDD1B7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2B7-336C-4507-AD4A-DAD59269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298-E2EC-4A1A-AB9F-7E25E63C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2C4-287F-4243-8D99-664E161A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1B6-AE75-4D51-A9B0-2D6B22D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2A0-6888-4706-9411-F9808E5A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58A-F912-49EF-9AF7-C1D17B1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908-C08D-4D4D-B33D-7A7EC85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1B2-EEA7-4336-988B-5F5B014E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B27-F0E4-4475-81C1-5A8E4C8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27D-FF52-4C88-8736-355A131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620-5AEA-4E6C-92FF-2924B5F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D5538-CA78-46FC-9749-117B5B1296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