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124233"/>
        <c:axId val="76886260"/>
      </c:barChart>
      <c:catAx>
        <c:axId val="851242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886260"/>
        <c:crosses val="autoZero"/>
        <c:auto val="1"/>
        <c:lblAlgn val="ctr"/>
        <c:lblOffset val="100"/>
        <c:noMultiLvlLbl val="0"/>
      </c:catAx>
      <c:valAx>
        <c:axId val="768862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1242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DBDF-61A6-4746-B358-AC12F1388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DE3E-95DF-4C99-9DF7-91EEACC65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30E2-9807-4A56-9D59-37A7A46B7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6B15-B7AA-4F89-B26A-8F75474F3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6E1D-8FB4-4A8E-AA9D-D7F6E46A3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61A3-5A9E-4135-9BF3-A2B691510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78B6-F28B-4355-AC89-120065472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E60C-A681-48EF-A93E-EC5384A1F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0F4C-C49C-4267-A1EF-973A52C86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CE08-42D1-42F5-A147-84688855B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480F-6B6E-41F7-ACF4-D3B89205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17F2-71B8-4D5E-A418-5F6D089C8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2BA2C8-64A4-4685-9591-5542C678BA2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