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33081"/>
        <c:axId val="40899876"/>
      </c:barChart>
      <c:catAx>
        <c:axId val="97533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9876"/>
        <c:crosses val="autoZero"/>
        <c:auto val="1"/>
        <c:lblAlgn val="ctr"/>
        <c:lblOffset val="100"/>
        <c:noMultiLvlLbl val="0"/>
      </c:catAx>
      <c:valAx>
        <c:axId val="40899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33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CB2-BEB5-41F5-8235-5016478B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85B-5EC7-4F58-A55A-CAE5F04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735-D473-485B-B003-79148372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B66-B6FC-4E31-98CD-8D7CEEF9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CD-D7ED-4D16-AD34-CA83179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8E7-DE5E-419C-828F-34D1CDE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968-DC56-4173-8EF2-24DE144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CAD-C5E7-4C6F-9FFC-A77B6E9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54E-6D64-4061-89C4-5238C44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D26-8132-4384-854B-AD28984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C9D-7045-4D40-B659-4935619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28A-E8DC-4558-82C2-C198431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90962-CF16-42C3-A120-1AC654063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