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39348"/>
        <c:axId val="19819810"/>
      </c:barChart>
      <c:catAx>
        <c:axId val="51239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19810"/>
        <c:crosses val="autoZero"/>
        <c:auto val="1"/>
        <c:lblAlgn val="ctr"/>
        <c:lblOffset val="100"/>
        <c:noMultiLvlLbl val="0"/>
      </c:catAx>
      <c:valAx>
        <c:axId val="19819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9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1A3-018A-44E3-B225-80C81FCB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022-904A-48AD-A31F-46CE3E2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D85-959B-421F-9693-8681B5B5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044-1B87-4409-885F-B7BDAD65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595-04FC-427F-92D6-1ADFD85C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403-0782-4565-920E-9BDC575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E1B-029E-46BF-B38C-8EC3D07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2AD-CD74-45B0-9FA0-16C8A2C7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C33-60B2-450E-9F19-66EE9B6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CF0-79E7-4A65-9A65-BCFA367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8F9-C246-472E-8B75-097AA15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24B-4F2D-4364-AB10-8A581712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36D6-ACD8-4CB6-A897-1F77C4E3D1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