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23917"/>
        <c:axId val="79800810"/>
      </c:barChart>
      <c:catAx>
        <c:axId val="67923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00810"/>
        <c:crosses val="autoZero"/>
        <c:auto val="1"/>
        <c:lblAlgn val="ctr"/>
        <c:lblOffset val="100"/>
        <c:noMultiLvlLbl val="0"/>
      </c:catAx>
      <c:valAx>
        <c:axId val="79800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23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1CE-7123-4505-B82F-63D5BF82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16D-E018-410D-8EA4-2DE44A5A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B6E-EB26-423A-B31B-2F403B37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0B6-78A9-464F-8B8D-6D3ED8DA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588-07F7-40D6-B9AE-D56A0D27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1D7-8D81-45D6-8797-DDC8BBB0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936-B450-435E-851D-18A432B7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C6F-ADCB-474B-8E12-DB4418B1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5C1-264F-4085-8E4D-589087F1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47D-0C7F-4032-887F-3BF1FDE5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353-F39C-404D-A164-88F2DDCE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AE6-AD93-4C6F-9148-F6F92669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55A33-026A-4DEA-8F8F-A797365F38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