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08718"/>
        <c:axId val="24794374"/>
      </c:barChart>
      <c:catAx>
        <c:axId val="63308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94374"/>
        <c:crosses val="autoZero"/>
        <c:auto val="1"/>
        <c:lblAlgn val="ctr"/>
        <c:lblOffset val="100"/>
        <c:noMultiLvlLbl val="0"/>
      </c:catAx>
      <c:valAx>
        <c:axId val="24794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08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6A0-4452-464B-810F-0E8E30F2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53F-9398-4AA8-8B3E-9C94EFFF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512-EC42-43E5-A742-BDA89D7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9E4-3617-47B1-A1E5-01281129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3DA-9EEB-4D98-961F-7E7B9DF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759-017E-42E6-9624-FFA4EF1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7CF-E85D-4FFD-A656-D7293CA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D90-A999-4C2F-8A55-6DF4AD0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99E-3C17-4CFF-A74A-5EB31AD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8A6-89CF-44FC-9C5B-FED1FB9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3D9-2896-40AE-9640-BDABB44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F3B-42A4-4173-AAEB-A2FC16B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B969-6A9E-42BE-9428-45918B26B8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