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72093"/>
        <c:axId val="53349373"/>
      </c:barChart>
      <c:catAx>
        <c:axId val="97472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49373"/>
        <c:crosses val="autoZero"/>
        <c:auto val="1"/>
        <c:lblAlgn val="ctr"/>
        <c:lblOffset val="100"/>
        <c:noMultiLvlLbl val="0"/>
      </c:catAx>
      <c:valAx>
        <c:axId val="53349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72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03A-2EF4-4D88-9F09-70DFAF9A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78C-EC74-4930-81D4-077E4E28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FD8-641B-4CF8-89D8-DAC4B2FF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D4F-90C9-4A08-8FF0-DFEF4958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D4A-30D4-4946-A7DF-F60CD501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61E-43BA-409C-AFA4-29A33EB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4B3-B065-40D3-A751-F637AB51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FF4-1CAE-41C9-838B-7750448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59B-C48F-4753-AFD1-7BDA9C1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0B7-EC4B-4EA1-BD76-0E594332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C33-DC47-4492-B6D3-400B8AF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887-C212-420A-A8BF-EA545285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844DA-0F9D-465E-B51A-520D445F91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